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0A30-9228-4DEB-AD15-EAC8614E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DB65-7EC8-41B2-8444-6BB0D635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6A63-5943-4708-9E69-650398D6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1335-3DFA-4CF8-B862-A7BD71D8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9479-C08D-46E6-A4E9-D884E0C2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760A-B9AB-4738-98C1-8DD27D3E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25C1-366C-4D40-B3C0-6F58B3F7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893C-19E1-4FBD-A4CF-841DE425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AE87-0352-422C-8BA5-7D4BFEB0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F93C-F4A4-45EF-8665-9DA148AB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8C11-CA34-4215-8872-9E5E2985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9D94-7603-46CB-9945-3205BBF5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C5CA-1E85-49EE-942E-50B25D0C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6440-7975-45DE-9FB6-D6586EB5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E722-F5D5-4C83-B178-11D07851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AD1A-A5F9-449D-9DB0-5820E89A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618B-931F-4B4D-9A70-33591E28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64CC-B58C-4636-A573-976E6701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6DEF-B8D2-43DE-AB59-3BFF4C27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CCE4-CFC2-4829-AD1B-748E85F2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85AE-662E-458D-AF77-8E155F35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F349-5BF1-48B9-8331-B4A4EAA9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A528-F15F-415B-B7C9-9BD4D313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E547-111F-4199-BC81-AFF3E7BB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2BEB-3D00-4E0C-A063-5EA329ECBC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F450-C09D-47CE-A024-B95201571D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Tent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Incense2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Ark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Mercy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riestRobe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Altar2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Altar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Fence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Gate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Laver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Lamp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ShowBread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Incense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0T02:17:02Z</dcterms:created>
  <dc:creator>Christian Chen</dc:creator>
  <dc:description/>
  <dc:language>en-US</dc:language>
  <cp:lastModifiedBy>Christian Chen</cp:lastModifiedBy>
  <dcterms:modified xsi:type="dcterms:W3CDTF">2006-10-08T15:16:18Z</dcterms:modified>
  <cp:revision>26</cp:revision>
  <dc:subject/>
  <dc:title>ROCK</dc:title>
</cp:coreProperties>
</file>